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87C4F-AA28-4C2C-8932-919742BF3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A4277-08C8-4F6D-900B-23E811C50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3BF6A3-11DF-470A-A006-A15C3569B2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56DEED-82B1-4C8F-A692-6EA25A8B44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159184-F867-4458-B90D-2642DC6E6B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FA6820-0F88-4C1A-BB92-5A66965B45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002611-6743-4D5B-B57F-693C340A6C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6788F8-5382-4141-8803-58D6C31574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601D19-6D63-4801-B373-BB934A9291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E306F3-E9FE-4265-AFB7-C116BEEB96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F078D2-409A-4425-B084-1EBFA1D315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1E0DE-5BDD-4186-B096-B3966D507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8A8D9-CA17-461A-B97B-225F5CF58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7B552D-D246-42B5-BE62-C4C24C6385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19B00-0959-4A95-BF97-B65CCC70F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C0945-6189-44C4-8173-513CF20CC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6568A-06F7-47DC-B230-90CBA2E0B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D6333-7C2E-4362-8EE4-E986DD27B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327BD-CCF7-4139-9EE0-82A6F32B0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290A7-3EC8-45DB-9630-2FA752EB6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28C5E-B702-46F0-B669-6ACD3B455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50F26-42C3-4CC3-AB50-34FAAA8F8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9F0B6-BE6D-4EDA-9E6D-D740E437B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496B72-24BD-494E-B897-8CCAA9529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D85F61-F85F-4452-B3A9-640E197A07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C2D0E5-FD4B-489B-956D-C18D327AD9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A38DA1-A329-4DDB-8098-AC88CDBAC3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422BE7-BFEE-4ED4-AD7B-F673ECFC6C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C757B1-0C62-48DF-9903-3772A1EFD6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F903F0-3F65-4E6B-AEB7-2885A4237B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21B477-8459-4081-9949-3B3B0A0BDF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899D9-04E2-46E5-A7AC-9C7BD81F2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F8685A-3616-40DE-A458-2B36399B8E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E5A749-9C0A-4BFE-ADBE-93FAB6CE29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7DED62-BF83-451B-84AD-FC5535829C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1D1030-09DB-48FD-BAA4-66C901C4F1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D23990-1F8C-407F-9323-9892E3E1FC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29FC4A-6DED-400E-AC99-FF7CDC62F6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07EE1A-1178-4F7F-B9B0-37C2ED9BD1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096BCA-11E6-4BDE-A580-449AF50BA5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80BA6A-8717-40BF-B1E5-200C13403A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11F048-8814-41A9-9653-FA671F1BE4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3F434-100D-4A93-9123-661CEDB59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6B35BA-699D-4B3F-B42A-FF4DC957BE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F11B3E-21F0-4C4C-AE3D-F2E14DC591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22DFA7-3FA8-4EB5-9D67-33D3BE928C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B58766-E198-4064-B63B-08BB773C49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DF2D17-BAC6-4893-A57F-7AE814A0A8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A76A9C-1BA4-41ED-8A55-47800FF530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4BCA32-5C7C-4B0D-8E17-EA93A2A5E1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CBE618-09FE-414E-9D90-C0963938B0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04C745-2C33-4B6E-95CC-ED45446D50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F5762B-2CE9-4963-8F77-A4E0A33C37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8F39F-CD9A-4134-8D8A-64BCC27AC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1EF66B-7B33-4EB9-838C-B27CC94539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6069CA-6453-4A1F-8706-8B2D1870C9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0A2E34-003A-429B-911B-FCC58B27FA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35599A-4E37-43BD-9859-744342A68B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45A979-3C47-42E8-80D5-558FDDC572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4FF35E-8AFC-4871-9C98-09FA6A6E49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51DF96-C697-49AA-8928-90E2FC373C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D20021-01AD-43C3-842B-3F5B00989F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B87614-DB20-4C2A-9EAC-A9268D4B14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7CE2D8-C65C-49F6-BA8F-D08B879CEC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6EC6B-0928-4AAF-AC0D-4287324AF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128E50-8EE7-4A18-B642-93A7F65F2E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40CDB5-C2DB-44FA-8297-F1599F9DBD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5FCC65-5D3C-4E9A-AE90-61D637B2D3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303163-79D9-4E1E-88D0-FF3710516E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16B05E-48DC-438F-854A-4B2676324B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EEFFA0-A1E1-4512-8922-A11F9958F0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EF5B8E-250D-46F8-8C53-F2194D6892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8B2105-BA3A-4166-AC41-59816488E9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0933FC-8B90-406D-9192-E70138CC55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924646-1DB5-4F99-8274-BA2DCF4B94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59510-5453-4140-8802-1C15C205D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262B72-120C-4220-8E09-B706891E78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F0951A-380E-499D-B282-9A62C1E868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11BDBB-7E7A-40A1-A026-452843F2BD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310BFA-3B27-4B08-813B-E41BACCBBF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E4A5B1-46B0-4B9D-A383-D67DA17B79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8C89E8-F6F9-4345-B038-1D927E1A49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E7E74B-A267-48AC-AAB3-B2125FCE6D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39F38D-2704-4B47-8563-0103CB220B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6EB0E5-7678-42B8-926D-BF739884E0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90E2F4-6C6D-4072-AA40-3FA330AD12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F678E-192D-46C0-B055-A38B31BDA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9D6CF3-876C-4E2B-B815-560D9F30B8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7E459F-0040-4DBC-A256-94815E51BE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611845-5187-446E-94BF-A18619DF93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242380-91FA-4DFF-8493-A2A318F2AF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973303-DC66-47C2-8137-78E086C201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56C866-FC9F-40BB-9041-00E7A1F18A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240F77-FA26-4A72-8F88-7F25927D86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A605C5-B532-4449-BFCD-EC79F433C6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F74226-CC93-464B-A8FE-85E41F0510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7A8118-2EF7-4597-8857-756A827055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78766-501A-4A19-81A4-2113591A6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5F6AF6-3B46-4AC9-9654-66570F4F7F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C65B36-0DEF-4F99-8F41-F28832D208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04C37F-791B-48BF-AA54-1E62C2CE36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CFE0AC-A4DC-4BE0-BA1D-1149C67F00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90515C-8347-4616-87A1-058F1C87AE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704B9B-F983-4538-BDCB-91E1FEF6A5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79DFC0-C591-46B5-9A5A-B002D73DF7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EC4FD4-4E9D-4ED7-9DE1-B34AF654A5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34C6CC-ED12-45AD-BD5E-F3FE369154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75CE4D-44B8-4E7B-9998-9DCAFF1F6A6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6B84C-F5E3-440C-8C5C-3E17E950FACF}"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03CB-753D-4524-8195-DEFE73F0F6B8}"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7209A-C968-4358-8EF9-0B5BE4A367DD}"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C69A3-E145-45B7-8F7A-626694BF3B30}" type="slidenum">
              <a:rPr b="0" lang="lv-LV"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1939F-7982-4486-B767-3267B76F047F}"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BFB4-78BE-48F1-B530-D462CE11E75A}"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55FDF-B040-4A63-B3AA-8B62D442F8A9}"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43C93-121C-4030-B468-41D03CF93568}"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45F16-2684-492B-A59F-D5BD3ED75E35}"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subTitle"/>
          </p:nvPr>
        </p:nvSpPr>
        <p:spPr>
          <a:xfrm>
            <a:off x="684000" y="5300280"/>
            <a:ext cx="7592760" cy="1198440"/>
          </a:xfrm>
          <a:prstGeom prst="rect">
            <a:avLst/>
          </a:prstGeom>
          <a:noFill/>
          <a:ln w="0">
            <a:noFill/>
          </a:ln>
        </p:spPr>
        <p:txBody>
          <a:bodyPr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3329"/>
                </a:solidFill>
                <a:latin typeface="Verdana"/>
              </a:rPr>
              <a:t>2008.GADA 28. MARTĀ</a:t>
            </a:r>
            <a:endParaRPr b="0" lang="en-US" sz="1800" spc="-1" strike="noStrike">
              <a:solidFill>
                <a:srgbClr val="4e3b30"/>
              </a:solidFill>
              <a:latin typeface="Franklin Gothic Book"/>
            </a:endParaRPr>
          </a:p>
        </p:txBody>
      </p:sp>
      <p:sp>
        <p:nvSpPr>
          <p:cNvPr id="400" name="Text Box 13"/>
          <p:cNvSpPr/>
          <p:nvPr/>
        </p:nvSpPr>
        <p:spPr>
          <a:xfrm>
            <a:off x="684360" y="1557360"/>
            <a:ext cx="8065800" cy="61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NTSP SOCIĀLĀS  DROŠĪBAS APAKŠPADOMES</a:t>
            </a:r>
            <a:endParaRPr b="0" i="1" lang="en-US" sz="3200" spc="-1" strike="noStrike">
              <a:solidFill>
                <a:srgbClr val="000000"/>
              </a:solidFill>
              <a:latin typeface="CentSchbook T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DARBĪBAS PĀRSKATS </a:t>
            </a:r>
            <a:endParaRPr b="0" i="1" lang="en-US" sz="3200" spc="-1" strike="noStrike">
              <a:solidFill>
                <a:srgbClr val="000000"/>
              </a:solidFill>
              <a:latin typeface="CentSchbook T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2007</a:t>
            </a:r>
            <a:endParaRPr b="0" i="1" lang="en-US" sz="32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r>
              <a:rPr b="1" i="1" lang="en-US" sz="1400" spc="-1" strike="noStrike">
                <a:solidFill>
                  <a:srgbClr val="000000"/>
                </a:solidFill>
                <a:latin typeface="Verdana"/>
              </a:rPr>
              <a:t>Ziņo: I. HOMKO</a:t>
            </a: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395280" y="40464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 jautājumu virzību izskatīšanai NTSP</a:t>
            </a:r>
            <a:endParaRPr b="0" i="1" lang="en-US" sz="2400" spc="-1" strike="noStrike">
              <a:solidFill>
                <a:srgbClr val="000000"/>
              </a:solidFill>
              <a:latin typeface="CentSchbook TL"/>
            </a:endParaRPr>
          </a:p>
        </p:txBody>
      </p:sp>
      <p:sp>
        <p:nvSpPr>
          <p:cNvPr id="416" name=""/>
          <p:cNvSpPr/>
          <p:nvPr/>
        </p:nvSpPr>
        <p:spPr>
          <a:xfrm>
            <a:off x="539640" y="1197000"/>
            <a:ext cx="8209080" cy="48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a:t>
            </a:r>
            <a:r>
              <a:rPr b="0" lang="lv-LV" sz="2000" spc="-1" strike="noStrike">
                <a:solidFill>
                  <a:srgbClr val="000000"/>
                </a:solidFill>
                <a:latin typeface="Calibri"/>
              </a:rPr>
              <a:t>izskata koncepciju, programmu un citu politikas plānošanas dokumentu, likumu, kā arī MK noteikumu un citu  tiesību aktu projektus sociālās drošības jautājumos, izstrādā savus priekšlikumus, kā arī sniedz atzinumus pirms to izskatīšanas NTSP un Ministru kabine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a:t>
            </a:r>
            <a:r>
              <a:rPr b="0" lang="lv-LV" sz="2000" spc="-1" strike="noStrike">
                <a:solidFill>
                  <a:srgbClr val="000000"/>
                </a:solidFill>
                <a:latin typeface="Calibri"/>
              </a:rPr>
              <a:t>Ja</a:t>
            </a:r>
            <a:r>
              <a:rPr b="0" lang="lv-LV" sz="2000" spc="-1" strike="noStrike">
                <a:solidFill>
                  <a:srgbClr val="000000"/>
                </a:solidFill>
                <a:latin typeface="CentSchbook TL"/>
              </a:rPr>
              <a:t> </a:t>
            </a:r>
            <a:r>
              <a:rPr b="0" lang="lv-LV" sz="2000" spc="-1" strike="noStrike">
                <a:solidFill>
                  <a:srgbClr val="000000"/>
                </a:solidFill>
                <a:latin typeface="Calibri"/>
              </a:rPr>
              <a:t>Sociālās drošības apakšpadome nolemj jautājumu virzīt izskatīšanai NTSP, Sociālās drošības apakšpadomes sekretārs šo jautājumu, ar to saistītos materiālus un Sociālās drošības apakšpadomes lēmumu, noradot personu, kas ziņos NTSP sēdē, septiņu dienu laikā pēc sēdes iesniedz NTSP sekretariā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                                                             </a:t>
            </a:r>
            <a:r>
              <a:rPr b="0" lang="lv-LV" sz="2000" spc="-1" strike="noStrike">
                <a:solidFill>
                  <a:srgbClr val="000000"/>
                </a:solidFill>
                <a:latin typeface="Calibri"/>
              </a:rPr>
              <a:t>( SDA nolikums, II., VI. sadaļa)</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 </a:t>
            </a: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2708280"/>
            <a:ext cx="8244000" cy="588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alibri"/>
              </a:rPr>
              <a:t>                </a:t>
            </a:r>
            <a:r>
              <a:rPr b="0" lang="en-US" sz="3200" spc="-1" strike="noStrike">
                <a:solidFill>
                  <a:srgbClr val="4e3b30"/>
                </a:solidFill>
                <a:latin typeface="Calibri"/>
              </a:rPr>
              <a:t>Paldies par uzmanību.</a:t>
            </a:r>
            <a:endParaRPr b="0" lang="en-US" sz="3200" spc="-1" strike="noStrike">
              <a:solidFill>
                <a:srgbClr val="4e3b30"/>
              </a:solidFill>
              <a:latin typeface="Franklin Gothic Medium"/>
            </a:endParaRPr>
          </a:p>
        </p:txBody>
      </p:sp>
      <p:sp>
        <p:nvSpPr>
          <p:cNvPr id="418" name="Rectangle 2"/>
          <p:cNvSpPr/>
          <p:nvPr/>
        </p:nvSpPr>
        <p:spPr>
          <a:xfrm>
            <a:off x="395280" y="3933720"/>
            <a:ext cx="82440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Sylfaen"/>
              </a:rPr>
              <a:t>  </a:t>
            </a:r>
            <a:endParaRPr b="0" i="1" lang="en-US" sz="32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Rectangle 5" descr=""/>
          <p:cNvPicPr/>
          <p:nvPr/>
        </p:nvPicPr>
        <p:blipFill>
          <a:blip r:embed="rId2"/>
          <a:stretch/>
        </p:blipFill>
        <p:spPr>
          <a:xfrm>
            <a:off x="603360" y="-6480"/>
            <a:ext cx="8547120" cy="6870960"/>
          </a:xfrm>
          <a:prstGeom prst="rect">
            <a:avLst/>
          </a:prstGeom>
          <a:ln w="0">
            <a:noFill/>
          </a:ln>
        </p:spPr>
      </p:pic>
      <p:sp>
        <p:nvSpPr>
          <p:cNvPr id="402" name="PlaceHolder 1"/>
          <p:cNvSpPr>
            <a:spLocks noGrp="1"/>
          </p:cNvSpPr>
          <p:nvPr>
            <p:ph/>
          </p:nvPr>
        </p:nvSpPr>
        <p:spPr>
          <a:xfrm>
            <a:off x="214200" y="1356840"/>
            <a:ext cx="8507520" cy="46436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e3b30"/>
                </a:solidFill>
                <a:latin typeface="CentSchbook TL"/>
              </a:rPr>
              <a:t>                  “</a:t>
            </a:r>
            <a:r>
              <a:rPr b="1" i="1" lang="en-US" sz="2800" spc="-1" strike="noStrike">
                <a:solidFill>
                  <a:srgbClr val="4e3b30"/>
                </a:solidFill>
                <a:latin typeface="CentSchbook TL"/>
              </a:rPr>
              <a:t>Savienības mērķis veicināt mieru, stiprināt savas vērtības un savu tautu labklājību; </a:t>
            </a:r>
            <a:endParaRPr b="0" lang="en-US" sz="2800" spc="-1" strike="noStrike">
              <a:solidFill>
                <a:srgbClr val="4e3b30"/>
              </a:solidFill>
              <a:latin typeface="Franklin Gothic Book"/>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e3b30"/>
                </a:solidFill>
                <a:latin typeface="CentSchbook TL"/>
              </a:rPr>
              <a:t>                  </a:t>
            </a:r>
            <a:r>
              <a:rPr b="1" i="1" lang="en-US" sz="2800" spc="-1" strike="noStrike">
                <a:solidFill>
                  <a:srgbClr val="4e3b30"/>
                </a:solidFill>
                <a:latin typeface="CentSchbook TL"/>
              </a:rPr>
              <a:t>Savienība atzīst un savā līmenī veicina sociālo partneru lomu, ņemot vērā valstu sistēmu dažādību; tā veicina dialogu sociālo partneru starpā, ievērojot viņu autonomiju”</a:t>
            </a:r>
            <a:endParaRPr b="0" lang="en-US" sz="2800" spc="-1" strike="noStrike">
              <a:solidFill>
                <a:srgbClr val="4e3b30"/>
              </a:solidFill>
              <a:latin typeface="Franklin Gothic Book"/>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e3b30"/>
                </a:solidFill>
                <a:latin typeface="CentSchbook TL"/>
              </a:rPr>
              <a:t>                  </a:t>
            </a:r>
            <a:endParaRPr b="0" lang="en-US" sz="2400" spc="-1" strike="noStrike">
              <a:solidFill>
                <a:srgbClr val="4e3b30"/>
              </a:solidFill>
              <a:latin typeface="Franklin Gothic Book"/>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3b30"/>
                </a:solidFill>
                <a:latin typeface="CentSchbook TL"/>
              </a:rPr>
              <a:t>                                                                         </a:t>
            </a:r>
            <a:r>
              <a:rPr b="1" lang="en-US" sz="1600" spc="-1" strike="noStrike">
                <a:solidFill>
                  <a:srgbClr val="4e3b30"/>
                </a:solidFill>
                <a:latin typeface="CentSchbook TL"/>
              </a:rPr>
              <a:t>(LISABONAS LĪGUMS, 2.,136.a pants)</a:t>
            </a:r>
            <a:endParaRPr b="0" lang="en-US" sz="1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
          <p:cNvSpPr txBox="1"/>
          <p:nvPr/>
        </p:nvSpPr>
        <p:spPr>
          <a:xfrm>
            <a:off x="0" y="1197000"/>
            <a:ext cx="9144000" cy="4456080"/>
          </a:xfrm>
          <a:prstGeom prst="rect">
            <a:avLst/>
          </a:prstGeom>
          <a:noFill/>
          <a:ln w="0">
            <a:noFill/>
          </a:ln>
        </p:spPr>
        <p:txBody>
          <a:bodyPr anchor="t">
            <a:normAutofit/>
          </a:bodyPr>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4e3b30"/>
                </a:solidFill>
                <a:latin typeface="Franklin Gothic Book"/>
              </a:rPr>
              <a:t>Sociālās apdrošināšanas padome - </a:t>
            </a:r>
            <a:r>
              <a:rPr b="1" lang="lv-LV" sz="3200" spc="-1" strike="noStrike">
                <a:solidFill>
                  <a:srgbClr val="4e3b30"/>
                </a:solidFill>
                <a:latin typeface="Franklin Gothic Book"/>
              </a:rPr>
              <a:t>SAP </a:t>
            </a:r>
            <a:endParaRPr b="0" lang="en-US" sz="32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4e3b30"/>
                </a:solidFill>
                <a:latin typeface="Calibri"/>
              </a:rPr>
              <a:t>(</a:t>
            </a:r>
            <a:r>
              <a:rPr b="0" lang="lv-LV" sz="1800" spc="-1" strike="noStrike">
                <a:solidFill>
                  <a:srgbClr val="4e3b30"/>
                </a:solidFill>
                <a:latin typeface="Calibri"/>
              </a:rPr>
              <a:t>LR Ministru kabineta lēmums Nr.45 1994.gada 17.maijā</a:t>
            </a:r>
            <a:r>
              <a:rPr b="0" i="1" lang="lv-LV" sz="1800" spc="-1" strike="noStrike">
                <a:solidFill>
                  <a:srgbClr val="4e3b30"/>
                </a:solidFill>
                <a:latin typeface="Calibri"/>
              </a:rPr>
              <a:t>);</a:t>
            </a:r>
            <a:endParaRPr b="0" lang="en-US" sz="1800" spc="-1" strike="noStrike">
              <a:solidFill>
                <a:srgbClr val="4e3b30"/>
              </a:solidFill>
              <a:latin typeface="Franklin Gothic Book"/>
            </a:endParaRPr>
          </a:p>
          <a:p>
            <a:pPr lvl="2" marL="1143000" indent="-228600">
              <a:lnSpc>
                <a:spcPct val="100000"/>
              </a:lnSpc>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4e3b30"/>
                </a:solidFill>
                <a:latin typeface="Franklin Gothic Book"/>
              </a:rPr>
              <a:t>NTSP Sociālās drošības apakšpadome – </a:t>
            </a:r>
            <a:r>
              <a:rPr b="1" lang="lv-LV" sz="3200" spc="-1" strike="noStrike">
                <a:solidFill>
                  <a:srgbClr val="4e3b30"/>
                </a:solidFill>
                <a:latin typeface="Franklin Gothic Book"/>
              </a:rPr>
              <a:t>SDA</a:t>
            </a:r>
            <a:r>
              <a:rPr b="1" lang="lv-LV" sz="3200" spc="-1" strike="noStrike">
                <a:solidFill>
                  <a:srgbClr val="4e3b30"/>
                </a:solidFill>
                <a:latin typeface="Arial"/>
              </a:rPr>
              <a:t>, </a:t>
            </a:r>
            <a:endParaRPr b="0" lang="en-US" sz="32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e3b30"/>
                </a:solidFill>
                <a:latin typeface="Calibri"/>
              </a:rPr>
              <a:t>SAP tiesību, pienākumu un saistību pārmantotāja sociālās drošības jomā</a:t>
            </a:r>
            <a:endParaRPr b="0" lang="en-US" sz="18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4e3b30"/>
                </a:solidFill>
                <a:latin typeface="Calibri"/>
              </a:rPr>
              <a:t>(</a:t>
            </a:r>
            <a:r>
              <a:rPr b="0" lang="lv-LV" sz="1800" spc="-1" strike="noStrike">
                <a:solidFill>
                  <a:srgbClr val="4e3b30"/>
                </a:solidFill>
                <a:latin typeface="Calibri"/>
              </a:rPr>
              <a:t>NTSP, 2003.gada 12.novembrī</a:t>
            </a:r>
            <a:r>
              <a:rPr b="0" i="1" lang="lv-LV" sz="1800" spc="-1" strike="noStrike">
                <a:solidFill>
                  <a:srgbClr val="4e3b30"/>
                </a:solidFill>
                <a:latin typeface="Calibri"/>
              </a:rPr>
              <a:t>)</a:t>
            </a:r>
            <a:r>
              <a:rPr b="0" i="1" lang="lv-LV" sz="1800" spc="-1" strike="noStrike">
                <a:solidFill>
                  <a:srgbClr val="4e3b30"/>
                </a:solidFill>
                <a:latin typeface="Arial"/>
              </a:rPr>
              <a:t>.</a:t>
            </a:r>
            <a:endParaRPr b="0" lang="en-US" sz="1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4" name="Title 2" descr=""/>
          <p:cNvPicPr/>
          <p:nvPr/>
        </p:nvPicPr>
        <p:blipFill>
          <a:blip r:embed="rId2"/>
          <a:stretch/>
        </p:blipFill>
        <p:spPr>
          <a:xfrm>
            <a:off x="103320" y="450720"/>
            <a:ext cx="8894520" cy="1152720"/>
          </a:xfrm>
          <a:prstGeom prst="rect">
            <a:avLst/>
          </a:prstGeom>
          <a:ln w="0">
            <a:noFill/>
          </a:ln>
        </p:spPr>
      </p:pic>
      <p:sp>
        <p:nvSpPr>
          <p:cNvPr id="405" name=""/>
          <p:cNvSpPr txBox="1"/>
          <p:nvPr/>
        </p:nvSpPr>
        <p:spPr>
          <a:xfrm>
            <a:off x="304920" y="1125000"/>
            <a:ext cx="8686800" cy="49546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             </a:t>
            </a:r>
            <a:endParaRPr b="0" lang="en-US" sz="18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analizē sociālas apdrošināšanas speciālo budžetu izpildi un prognozes;</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sniedz priekšlikumus par sociālas apdrošināšanas līdzekļu efektīvāku izmantošanu;</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analizē sociālas apdrošināšanas obligāto iemaksu administrēšanu;</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sagatavo priekšlikumus par nepieciešamajiem grozījumiem likumos un citos normatīvajos aktos sociālās drošības jomā;</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piedalās normatīvo aktu sociālās drošības jomā pilnveidošanā atbilstoši Eiropas sociālās hartas , kā arī citu starptautisko institūciju rekomendāciju prasībām;</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veic informatīvi izglītojošu darbu darba dēvēju un darbinieku organizācijās par aktualitātēm sociālās drošības jautājumos</a:t>
            </a:r>
            <a:r>
              <a:rPr b="0" lang="en-US" sz="2200" spc="-1" strike="noStrike">
                <a:solidFill>
                  <a:srgbClr val="4e3b30"/>
                </a:solidFill>
                <a:latin typeface="Arial"/>
              </a:rPr>
              <a:t>;</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826920" y="1628640"/>
            <a:ext cx="734544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x</a:t>
            </a:r>
            <a:r>
              <a:rPr b="0" lang="lv-LV" sz="2000" spc="-1" strike="noStrike">
                <a:solidFill>
                  <a:srgbClr val="000000"/>
                </a:solidFill>
                <a:latin typeface="Calibri"/>
              </a:rPr>
              <a:t>izskata koncepciju, programmu un citu politikas plānošanas dokumentu, likumu, kā arī MK noteikumu un citu  tiesību aktu projektus sociālās drošības jautājumos, izstrādā savus priekšlikumus, kā arī sniedz atzinumus pirms to izskatīšanas NTSP un Ministru kabine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SDA viens no instrumentiem sociālā dialoga veicināšanai valstī.</a:t>
            </a: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7" name="Rectangle 2" descr=""/>
          <p:cNvPicPr/>
          <p:nvPr/>
        </p:nvPicPr>
        <p:blipFill>
          <a:blip r:embed="rId2"/>
          <a:stretch/>
        </p:blipFill>
        <p:spPr>
          <a:xfrm>
            <a:off x="225360" y="450720"/>
            <a:ext cx="8772480" cy="85428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Valdības</a:t>
            </a:r>
            <a:r>
              <a:rPr b="0" lang="en-US" sz="2800" spc="-1" strike="noStrike">
                <a:solidFill>
                  <a:srgbClr val="4e3b30"/>
                </a:solidFill>
                <a:latin typeface="Calibri"/>
              </a:rPr>
              <a:t> pārstāvji (3) –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Labklājības ministrija;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Ekonomikas ministrija;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Finanšu ministrija;</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Latvijas Darba dēvēju konfederācijas</a:t>
            </a:r>
            <a:r>
              <a:rPr b="0" lang="en-US" sz="2800" spc="-1" strike="noStrike">
                <a:solidFill>
                  <a:srgbClr val="4e3b30"/>
                </a:solidFill>
                <a:latin typeface="Calibri"/>
              </a:rPr>
              <a:t> pārstāvji (3);</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Latvijas Brīvo arodbiedrību savienības </a:t>
            </a:r>
            <a:r>
              <a:rPr b="0" lang="en-US" sz="2800" spc="-1" strike="noStrike">
                <a:solidFill>
                  <a:srgbClr val="4e3b30"/>
                </a:solidFill>
                <a:latin typeface="Calibri"/>
              </a:rPr>
              <a:t>pārstāvji (3)</a:t>
            </a:r>
            <a:endParaRPr b="0" lang="en-US" sz="2800" spc="-1" strike="noStrike">
              <a:solidFill>
                <a:srgbClr val="4e3b3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9" name="Rectangle 5" descr=""/>
          <p:cNvPicPr/>
          <p:nvPr/>
        </p:nvPicPr>
        <p:blipFill>
          <a:blip r:embed="rId2"/>
          <a:stretch/>
        </p:blipFill>
        <p:spPr>
          <a:xfrm>
            <a:off x="371520" y="476280"/>
            <a:ext cx="8772480" cy="853920"/>
          </a:xfrm>
          <a:prstGeom prst="rect">
            <a:avLst/>
          </a:prstGeom>
          <a:ln w="0">
            <a:noFill/>
          </a:ln>
        </p:spPr>
      </p:pic>
      <p:sp>
        <p:nvSpPr>
          <p:cNvPr id="410"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grafiks;</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plāna izstrādāšana;</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izskatāmo jautājumu loks (Bērnu un ģimenes lietu ministrijas kompetenc</a:t>
            </a:r>
            <a:r>
              <a:rPr b="0" lang="en-US" sz="2000" spc="-1" strike="noStrike">
                <a:solidFill>
                  <a:srgbClr val="4e3b30"/>
                </a:solidFill>
                <a:latin typeface="Arial"/>
              </a:rPr>
              <a:t>ē</a:t>
            </a:r>
            <a:r>
              <a:rPr b="0" lang="en-US" sz="2000" spc="-1" strike="noStrike">
                <a:solidFill>
                  <a:srgbClr val="4e3b30"/>
                </a:solidFill>
                <a:latin typeface="Calibri"/>
              </a:rPr>
              <a:t> esošie jautājumi sociālās drošības jomā);  </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ības rezultātu  izvērtēšana;</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grupu izveide;</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ības publicitāte;</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sadarbības partneri (VSAA,VID,VDI,FKTK, CSP);</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sadarbība ar NTSP apakšpadomēm (DLTSA) </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Rectangle 2" descr=""/>
          <p:cNvPicPr/>
          <p:nvPr/>
        </p:nvPicPr>
        <p:blipFill>
          <a:blip r:embed="rId2"/>
          <a:stretch/>
        </p:blipFill>
        <p:spPr>
          <a:xfrm>
            <a:off x="237960" y="450720"/>
            <a:ext cx="8759880" cy="854280"/>
          </a:xfrm>
          <a:prstGeom prst="rect">
            <a:avLst/>
          </a:prstGeom>
          <a:ln w="0">
            <a:noFill/>
          </a:ln>
        </p:spPr>
      </p:pic>
      <p:sp>
        <p:nvSpPr>
          <p:cNvPr id="412" name=""/>
          <p:cNvSpPr txBox="1"/>
          <p:nvPr/>
        </p:nvSpPr>
        <p:spPr>
          <a:xfrm>
            <a:off x="304920" y="1554120"/>
            <a:ext cx="8686800" cy="4525920"/>
          </a:xfrm>
          <a:prstGeom prst="rect">
            <a:avLst/>
          </a:prstGeom>
          <a:noFill/>
          <a:ln w="0">
            <a:noFill/>
          </a:ln>
        </p:spPr>
        <p:txBody>
          <a:bodyPr anchor="t">
            <a:normAutofit fontScale="85000"/>
          </a:bodyPr>
          <a:p>
            <a:pPr marL="518040" indent="-5180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e3b30"/>
                </a:solidFill>
                <a:latin typeface="Calibri"/>
              </a:rPr>
              <a:t>veicinošie faktori</a:t>
            </a:r>
            <a:r>
              <a:rPr b="0" lang="lv-LV" sz="2400" spc="-1" strike="noStrike">
                <a:solidFill>
                  <a:srgbClr val="4e3b30"/>
                </a:solidFill>
                <a:latin typeface="Calibri"/>
              </a:rPr>
              <a:t>:</a:t>
            </a:r>
            <a:endParaRPr b="0" lang="en-US" sz="24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Calibri"/>
              </a:rPr>
              <a:t>sociālo partneru aktīvā līdzda</a:t>
            </a:r>
            <a:r>
              <a:rPr b="0" lang="lv-LV" sz="2000" spc="-1" strike="noStrike">
                <a:solidFill>
                  <a:srgbClr val="4e3b30"/>
                </a:solidFill>
                <a:latin typeface="Arial"/>
              </a:rPr>
              <a:t>l</a:t>
            </a:r>
            <a:r>
              <a:rPr b="0" lang="lv-LV" sz="2000" spc="-1" strike="noStrike">
                <a:solidFill>
                  <a:srgbClr val="4e3b30"/>
                </a:solidFill>
                <a:latin typeface="Calibri"/>
              </a:rPr>
              <a:t>ībā;</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dalībpušu  kompetenta pārstāvniecība.</a:t>
            </a:r>
            <a:endParaRPr b="0" lang="en-US" sz="2000" spc="-1" strike="noStrike">
              <a:solidFill>
                <a:srgbClr val="4e3b30"/>
              </a:solidFill>
              <a:latin typeface="Franklin Gothic Book"/>
            </a:endParaRPr>
          </a:p>
          <a:p>
            <a:pPr marL="518040" indent="-51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518040" indent="-51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518040" indent="-5180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e3b30"/>
                </a:solidFill>
                <a:latin typeface="Calibri"/>
              </a:rPr>
              <a:t>traucējošie faktori</a:t>
            </a:r>
            <a:r>
              <a:rPr b="0" lang="lv-LV" sz="2400" spc="-1" strike="noStrike">
                <a:solidFill>
                  <a:srgbClr val="4e3b30"/>
                </a:solidFill>
                <a:latin typeface="Calibri"/>
              </a:rPr>
              <a:t>: </a:t>
            </a:r>
            <a:endParaRPr b="0" lang="en-US" sz="24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politikas plānošanas dokumentu un tiesību </a:t>
            </a:r>
            <a:r>
              <a:rPr b="0" lang="lv-LV" sz="2000" spc="-1" strike="noStrike">
                <a:solidFill>
                  <a:srgbClr val="4e3b30"/>
                </a:solidFill>
                <a:latin typeface="Calibri"/>
              </a:rPr>
              <a:t>aktu sociāli-ekonomiskais pamatojums; </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tiesību </a:t>
            </a:r>
            <a:r>
              <a:rPr b="0" lang="lv-LV" sz="2000" spc="-1" strike="noStrike">
                <a:solidFill>
                  <a:srgbClr val="4e3b30"/>
                </a:solidFill>
                <a:latin typeface="Calibri"/>
              </a:rPr>
              <a:t>aktu bieža mainība;</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tiesību </a:t>
            </a:r>
            <a:r>
              <a:rPr b="0" lang="lv-LV" sz="2000" spc="-1" strike="noStrike">
                <a:solidFill>
                  <a:srgbClr val="4e3b30"/>
                </a:solidFill>
                <a:latin typeface="Calibri"/>
              </a:rPr>
              <a:t>aktu procesa izstrādāšanas  steidzamība;</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dokumentu tulkojuma nodrošināšana latviešu valodā;</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Calibri"/>
              </a:rPr>
              <a:t>valdības  politika sociālās drošības jomā </a:t>
            </a:r>
            <a:r>
              <a:rPr b="0" lang="lv-LV" sz="2000" spc="-1" strike="noStrike">
                <a:solidFill>
                  <a:srgbClr val="4e3b30"/>
                </a:solidFill>
                <a:latin typeface="Arial"/>
              </a:rPr>
              <a:t>(</a:t>
            </a:r>
            <a:r>
              <a:rPr b="0" lang="lv-LV" sz="2000" spc="-1" strike="noStrike">
                <a:solidFill>
                  <a:srgbClr val="4e3b30"/>
                </a:solidFill>
                <a:latin typeface="Calibri"/>
              </a:rPr>
              <a:t>pozīciju maiņa </a:t>
            </a:r>
            <a:r>
              <a:rPr b="0" lang="lv-LV" sz="2000" spc="-1" strike="noStrike">
                <a:solidFill>
                  <a:srgbClr val="4e3b30"/>
                </a:solidFill>
                <a:latin typeface="Arial"/>
              </a:rPr>
              <a:t>,</a:t>
            </a:r>
            <a:r>
              <a:rPr b="0" lang="lv-LV" sz="2000" spc="-1" strike="noStrike">
                <a:solidFill>
                  <a:srgbClr val="4e3b30"/>
                </a:solidFill>
                <a:latin typeface="Calibri"/>
              </a:rPr>
              <a:t>valsts sociālās apdrošināšanas speciālā budžeta pieejamība, </a:t>
            </a:r>
            <a:r>
              <a:rPr b="0" lang="lv-LV" sz="2000" spc="-1" strike="noStrike">
                <a:solidFill>
                  <a:srgbClr val="4e3b30"/>
                </a:solidFill>
                <a:latin typeface="Arial"/>
              </a:rPr>
              <a:t>politikas plānošanas dokumentu īstenošana).</a:t>
            </a: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Calibri"/>
              </a:rPr>
              <a:t>SDA. Vīzijas.</a:t>
            </a:r>
            <a:r>
              <a:rPr b="0" lang="en-US" sz="2400" spc="-1" strike="noStrike">
                <a:solidFill>
                  <a:srgbClr val="4e3b30"/>
                </a:solidFill>
                <a:latin typeface="Arial"/>
              </a:rPr>
              <a:t>  </a:t>
            </a:r>
            <a:endParaRPr b="0" lang="en-US" sz="2400" spc="-1" strike="noStrike">
              <a:solidFill>
                <a:srgbClr val="4e3b30"/>
              </a:solidFill>
              <a:latin typeface="Franklin Gothic Medium"/>
            </a:endParaRPr>
          </a:p>
        </p:txBody>
      </p:sp>
      <p:sp>
        <p:nvSpPr>
          <p:cNvPr id="414" name=""/>
          <p:cNvSpPr/>
          <p:nvPr/>
        </p:nvSpPr>
        <p:spPr>
          <a:xfrm>
            <a:off x="684360" y="1341360"/>
            <a:ext cx="8064360" cy="59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a:t>
            </a:r>
            <a:r>
              <a:rPr b="1" lang="lv-LV" sz="2000" spc="-1" strike="noStrike">
                <a:solidFill>
                  <a:srgbClr val="000000"/>
                </a:solidFill>
                <a:latin typeface="Calibri"/>
              </a:rPr>
              <a:t>Veikt</a:t>
            </a:r>
            <a:r>
              <a:rPr b="0" lang="lv-LV" sz="2000" spc="-1" strike="noStrike">
                <a:solidFill>
                  <a:srgbClr val="000000"/>
                </a:solidFill>
                <a:latin typeface="Calibri"/>
              </a:rPr>
              <a:t> SDA struktūr</a:t>
            </a:r>
            <a:r>
              <a:rPr b="0" lang="lv-LV" sz="2000" spc="-1" strike="noStrike">
                <a:solidFill>
                  <a:srgbClr val="000000"/>
                </a:solidFill>
                <a:latin typeface="Arial"/>
              </a:rPr>
              <a:t>as optimizāciju,</a:t>
            </a:r>
            <a:r>
              <a:rPr b="0" lang="lv-LV" sz="2000" spc="-1" strike="noStrike">
                <a:solidFill>
                  <a:srgbClr val="000000"/>
                </a:solidFill>
                <a:latin typeface="Calibri"/>
              </a:rPr>
              <a:t> paplašinot sociālo partneru </a:t>
            </a:r>
            <a:r>
              <a:rPr b="0" lang="lv-LV" sz="2000" spc="-1" strike="noStrike">
                <a:solidFill>
                  <a:srgbClr val="000000"/>
                </a:solidFill>
                <a:latin typeface="Arial"/>
              </a:rPr>
              <a:t>pārstāvju </a:t>
            </a:r>
            <a:r>
              <a:rPr b="0" lang="lv-LV" sz="2000" spc="-1" strike="noStrike">
                <a:solidFill>
                  <a:srgbClr val="000000"/>
                </a:solidFill>
                <a:latin typeface="Calibri"/>
              </a:rPr>
              <a:t>loku</a:t>
            </a:r>
            <a:r>
              <a:rPr b="0" i="1" lang="lv-LV" sz="2400" spc="-1" strike="noStrike">
                <a:solidFill>
                  <a:srgbClr val="000000"/>
                </a:solidFill>
                <a:latin typeface="CentSchbook TL"/>
              </a:rPr>
              <a:t> </a:t>
            </a:r>
            <a:r>
              <a:rPr b="0" lang="lv-LV" sz="2000" spc="-1" strike="noStrike">
                <a:solidFill>
                  <a:srgbClr val="000000"/>
                </a:solidFill>
                <a:latin typeface="Calibri"/>
              </a:rPr>
              <a:t>( SDA nolikums, IV. sadaļa, 25.03.2008.SDA sēdes lēmums ). </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c42f"/>
                </a:solidFill>
                <a:latin typeface="Calibri"/>
                <a:ea typeface="Arial"/>
              </a:rPr>
              <a:t>∙</a:t>
            </a:r>
            <a:r>
              <a:rPr b="0" lang="lv-LV" sz="2000" spc="-1" strike="noStrike">
                <a:solidFill>
                  <a:srgbClr val="f0a22e"/>
                </a:solidFill>
                <a:latin typeface="Arial"/>
                <a:ea typeface="Arial"/>
              </a:rPr>
              <a:t> </a:t>
            </a:r>
            <a:r>
              <a:rPr b="0" lang="lv-LV" sz="2000" spc="-1" strike="noStrike">
                <a:solidFill>
                  <a:srgbClr val="000000"/>
                </a:solidFill>
                <a:latin typeface="Calibri"/>
                <a:ea typeface="Arial"/>
              </a:rPr>
              <a:t>Bērnu un ģimenes lietu ministrijas pārstāvji</a:t>
            </a:r>
            <a:r>
              <a:rPr b="0" lang="lv-LV" sz="2000" spc="-1" strike="noStrike">
                <a:solidFill>
                  <a:srgbClr val="000000"/>
                </a:solidFill>
                <a:latin typeface="Arial"/>
                <a:ea typeface="Arial"/>
              </a:rPr>
              <a:t> (darbības mērķi saskaņā ar 08.03.2008.MK noteikumiem Nr.687 ”Bērnu un ģimenes lietu ministrijas nolikums”, II sadaļa)</a:t>
            </a:r>
            <a:r>
              <a:rPr b="0" lang="lv-LV" sz="2000" spc="-1" strike="noStrike">
                <a:solidFill>
                  <a:srgbClr val="000000"/>
                </a:solidFill>
                <a:latin typeface="Calibri"/>
                <a:ea typeface="Arial"/>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0a22e"/>
                </a:solidFill>
                <a:latin typeface="Calibri"/>
              </a:rPr>
              <a:t>•</a:t>
            </a:r>
            <a:r>
              <a:rPr b="0" lang="lv-LV" sz="2000" spc="-1" strike="noStrike">
                <a:solidFill>
                  <a:srgbClr val="f0a22e"/>
                </a:solidFill>
                <a:latin typeface="Arial"/>
              </a:rPr>
              <a:t>  </a:t>
            </a:r>
            <a:r>
              <a:rPr b="0" lang="lv-LV" sz="2000" spc="-1" strike="noStrike">
                <a:solidFill>
                  <a:srgbClr val="000000"/>
                </a:solidFill>
                <a:latin typeface="Calibri"/>
              </a:rPr>
              <a:t>Īpašu uzdevumu ministra sabiedrības integrācijas lietās</a:t>
            </a:r>
            <a:r>
              <a:rPr b="0" lang="lv-LV" sz="2000" spc="-1" strike="noStrike">
                <a:solidFill>
                  <a:srgbClr val="000000"/>
                </a:solidFill>
                <a:latin typeface="Arial"/>
              </a:rPr>
              <a:t>                 </a:t>
            </a:r>
            <a:r>
              <a:rPr b="0" lang="lv-LV" sz="2000" spc="-1" strike="noStrike">
                <a:solidFill>
                  <a:srgbClr val="000000"/>
                </a:solidFill>
                <a:latin typeface="Calibri"/>
              </a:rPr>
              <a:t>sekretariāta pārstāvji</a:t>
            </a:r>
            <a:r>
              <a:rPr b="0" lang="lv-LV" sz="2000" spc="-1" strike="noStrike">
                <a:solidFill>
                  <a:srgbClr val="000000"/>
                </a:solidFill>
                <a:latin typeface="Arial"/>
              </a:rPr>
              <a:t> (2001. gada MK Valsts programma ”Sabiedrības integrācija Latvijā”, darbības mērķi sabiedrības sociālās integrācijas jomā) </a:t>
            </a:r>
            <a:r>
              <a:rPr b="0" lang="lv-LV" sz="2000" spc="-1" strike="noStrike">
                <a:solidFill>
                  <a:srgbClr val="000000"/>
                </a:solidFill>
                <a:latin typeface="Calibri"/>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0a22e"/>
                </a:solidFill>
                <a:latin typeface="Calibri"/>
              </a:rPr>
              <a:t>•</a:t>
            </a:r>
            <a:r>
              <a:rPr b="0" lang="lv-LV" sz="2000" spc="-1" strike="noStrike">
                <a:solidFill>
                  <a:srgbClr val="f0a22e"/>
                </a:solidFill>
                <a:latin typeface="Arial"/>
              </a:rPr>
              <a:t>  </a:t>
            </a:r>
            <a:r>
              <a:rPr b="0" lang="lv-LV" sz="2000" spc="-1" strike="noStrike">
                <a:solidFill>
                  <a:srgbClr val="000000"/>
                </a:solidFill>
                <a:latin typeface="Calibri"/>
              </a:rPr>
              <a:t>palielināt LDDK un LBAS pārstāvju skaitu līdz 5</a:t>
            </a:r>
            <a:r>
              <a:rPr b="0" lang="lv-LV" sz="2000" spc="-1" strike="noStrike">
                <a:solidFill>
                  <a:srgbClr val="000000"/>
                </a:solidFill>
                <a:latin typeface="Arial"/>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a:t>
            </a:r>
            <a:r>
              <a:rPr b="1" lang="lv-LV" sz="2000" spc="-1" strike="noStrike">
                <a:solidFill>
                  <a:srgbClr val="000000"/>
                </a:solidFill>
                <a:latin typeface="Arial"/>
              </a:rPr>
              <a:t>N</a:t>
            </a:r>
            <a:r>
              <a:rPr b="1" lang="lv-LV" sz="2000" spc="-1" strike="noStrike">
                <a:solidFill>
                  <a:srgbClr val="000000"/>
                </a:solidFill>
                <a:latin typeface="Calibri"/>
              </a:rPr>
              <a:t>odrošināt</a:t>
            </a:r>
            <a:r>
              <a:rPr b="0" lang="lv-LV" sz="2000" spc="-1" strike="noStrike">
                <a:solidFill>
                  <a:srgbClr val="000000"/>
                </a:solidFill>
                <a:latin typeface="Calibri"/>
              </a:rPr>
              <a:t> sociālo partneru plašāku līdzdalību  </a:t>
            </a:r>
            <a:r>
              <a:rPr b="0" lang="lv-LV" sz="2000" spc="-1" strike="noStrike">
                <a:solidFill>
                  <a:srgbClr val="000000"/>
                </a:solidFill>
                <a:latin typeface="Calibri"/>
                <a:ea typeface="Arial"/>
              </a:rPr>
              <a:t> </a:t>
            </a:r>
            <a:r>
              <a:rPr b="0" lang="lv-LV" sz="2000" spc="-1" strike="noStrike">
                <a:solidFill>
                  <a:srgbClr val="000000"/>
                </a:solidFill>
                <a:latin typeface="Calibri"/>
              </a:rPr>
              <a:t>politikas plānošanas dokumentu un tiesību aktu  izstrādāšanas gaitā.</a:t>
            </a:r>
            <a:r>
              <a:rPr b="0" lang="lv-LV" sz="2400" spc="-1" strike="noStrike">
                <a:solidFill>
                  <a:srgbClr val="000000"/>
                </a:solidFill>
                <a:latin typeface="Calibri"/>
              </a:rPr>
              <a:t> </a:t>
            </a:r>
            <a:endParaRPr b="0" i="1" lang="en-US" sz="24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ea typeface="Arial"/>
              </a:rPr>
              <a:t>       </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1:30:38Z</dcterms:created>
  <dc:creator>EvijaM</dc:creator>
  <dc:description/>
  <dc:language>en-US</dc:language>
  <cp:lastModifiedBy>Sanita Diediske</cp:lastModifiedBy>
  <dcterms:modified xsi:type="dcterms:W3CDTF">2008-05-09T08:35:29Z</dcterms:modified>
  <cp:revision>472</cp:revision>
  <dc:subject/>
  <dc:title>Informatīvais ziņojums par  Nacionālā rīcības plāna  nabadzības un sociālās atstutmības mazināšanai (2004-2006)  īstenošanu 2005.gadā</dc:title>
</cp:coreProperties>
</file>